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304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548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060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304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548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240" y="154080"/>
            <a:ext cx="8775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0304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5480" y="77436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060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0304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85480" y="3633480"/>
            <a:ext cx="264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0240" y="154080"/>
            <a:ext cx="8775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7640" y="363348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060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7640" y="774360"/>
            <a:ext cx="4015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0600" y="3633480"/>
            <a:ext cx="8229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Rectangle 235"/>
          <p:cNvSpPr/>
          <p:nvPr/>
        </p:nvSpPr>
        <p:spPr>
          <a:xfrm>
            <a:off x="95400" y="6492960"/>
            <a:ext cx="175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ED2-5F12-4D0B-9D2A-33D8BD58B5C0}" type="slidenum"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Managed by UT-Battelle</a:t>
            </a:r>
            <a:br>
              <a:rPr sz="900"/>
            </a:br>
            <a:r>
              <a:rPr b="0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for the Departmen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18920" y="6662520"/>
            <a:ext cx="4257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261"/>
          <p:cNvSpPr/>
          <p:nvPr/>
        </p:nvSpPr>
        <p:spPr>
          <a:xfrm>
            <a:off x="7075440" y="3624120"/>
            <a:ext cx="2071800" cy="3251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673e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62" descr="ORNL_leaf white"/>
          <p:cNvPicPr/>
          <p:nvPr/>
        </p:nvPicPr>
        <p:blipFill>
          <a:blip r:embed="rId2"/>
          <a:stretch/>
        </p:blipFill>
        <p:spPr>
          <a:xfrm>
            <a:off x="8037360" y="6264360"/>
            <a:ext cx="1074960" cy="5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333333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60" descr="ORNL cover graphic"/>
          <p:cNvPicPr/>
          <p:nvPr/>
        </p:nvPicPr>
        <p:blipFill>
          <a:blip r:embed="rId2"/>
          <a:stretch/>
        </p:blipFill>
        <p:spPr>
          <a:xfrm>
            <a:off x="0" y="988920"/>
            <a:ext cx="506556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45"/>
          <p:cNvSpPr/>
          <p:nvPr/>
        </p:nvSpPr>
        <p:spPr>
          <a:xfrm>
            <a:off x="127080" y="6496200"/>
            <a:ext cx="327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Managed by UT-Battelle</a:t>
            </a:r>
            <a:br>
              <a:rPr sz="900"/>
            </a:br>
            <a:r>
              <a:rPr b="1" lang="en-US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for the Departmen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57"/>
          <p:cNvSpPr/>
          <p:nvPr/>
        </p:nvSpPr>
        <p:spPr>
          <a:xfrm>
            <a:off x="7075440" y="3624120"/>
            <a:ext cx="2071800" cy="3251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1673e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8" descr="ORNL_leaf white"/>
          <p:cNvPicPr/>
          <p:nvPr/>
        </p:nvPicPr>
        <p:blipFill>
          <a:blip r:embed="rId3"/>
          <a:stretch/>
        </p:blipFill>
        <p:spPr>
          <a:xfrm>
            <a:off x="8037360" y="6264360"/>
            <a:ext cx="1074960" cy="5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333333"/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0280" y="1569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DOE &amp; Data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57800" y="2247840"/>
            <a:ext cx="37339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uce Wil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ak Ridge National Labor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Caveats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h more going on than what I know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 is a complex place, several offices and n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f my contact is DOE Offic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gs are changing at Offic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 Palmisano new deputy director for Biological and Environmental Research (B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 Change Research Division position o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Theresa Fryberger is a DOE al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2519280" y="6662880"/>
            <a:ext cx="425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DOE and Data Preservation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Radiation Measurement (ARM) Program arch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 Dioxide Information and Analysis Center (CDI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flux data arch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ean carb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 data arch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STO QA (data at Langley DAA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Discovery through Advanced Computing (SciD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lab effort, includes Cl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519280" y="6662880"/>
            <a:ext cx="425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240" y="154080"/>
            <a:ext cx="8775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73e"/>
                </a:solidFill>
                <a:latin typeface="Arial Black"/>
              </a:rPr>
              <a:t>DOE and Data Preservation</a:t>
            </a:r>
            <a:endParaRPr b="0" lang="en-US" sz="34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0600" y="7743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th System Grid (ES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 models, model data, model intercomparis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Science and Technical Information (OST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.g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DOE Science data and pub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1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ibuted to several science eff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167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mics (GTL progra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2519280" y="6662880"/>
            <a:ext cx="425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ange this from View Menu | Header and Footer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39:19Z</dcterms:created>
  <dc:creator>Bruce E. Wilson</dc:creator>
  <dc:description/>
  <dc:language>en-US</dc:language>
  <cp:lastModifiedBy>Bruce E. Wilson</cp:lastModifiedBy>
  <dcterms:modified xsi:type="dcterms:W3CDTF">2009-01-08T19:19:35Z</dcterms:modified>
  <cp:revision>33</cp:revision>
  <dc:subject/>
  <dc:title>DOE &amp;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